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BD6-0200-428B-880C-4E9383DA50B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EBE-D194-455D-849F-223C5287110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A0D-D336-44DF-936F-C55C534A1AA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F959-D3D6-4066-BFF3-E6DB57A1C6B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C12-9A25-4C68-B78A-AC403F7DE9E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DFC-64E4-4343-AD74-B9A3AA3F2F7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82F9-C7C1-4BC9-B788-3AFC73CC3CA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805E-7A05-4CFB-A1CC-19B442A1401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13D7-E29C-43A8-8A6D-918545B2765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555-4086-4078-B8F5-7D85068B01C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081-B9CF-49A2-AAA8-D677E506C47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9483-913B-42F4-AD94-9AE50912F7F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F36B-ACF5-45C0-9409-E02F071E4C9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E2CA-1FC5-4067-87D2-B81AF017E2C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5E42-A256-45CC-985E-CE8C728FDA7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7331-1316-47B3-AED3-A8C7FF48856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F933-BDE4-43F3-B165-89F8931F847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4AA8-F14E-4978-B2D2-9AF72A37843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666F-6B25-4C6C-9533-25E177B18B1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1A49-0F54-419C-A8CA-E4D6A510DCA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5FD5-7755-436C-AD87-3DFA128A2D2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8131-3455-4D36-A12D-ED985C0DF19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B2F-7211-4A70-886D-C21AA13E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803-EB0C-412C-B58F-8743B78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F99-06EC-4FFC-95BC-6C70863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E32-8850-4CC3-B274-710D6E5E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15D-1E26-4CF2-94DE-DDA914F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A86-ADBF-4660-8151-20C5CEB8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1E8-A35E-4740-A823-7A0BD17A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BF9-1475-45AC-87B3-11FB1A6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0AC-0F8C-444F-8BF8-0C597EA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FB4-EFB3-4C83-B6CE-0553B7B3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F86-58FD-4426-B52C-3670243A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4ED-E9A2-468B-BDB4-E17B1748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354-C16D-4BE4-B764-A6B7E3E93975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8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1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2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7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Right Arrow 8"/>
          <p:cNvGrpSpPr/>
          <p:nvPr/>
        </p:nvGrpSpPr>
        <p:grpSpPr>
          <a:xfrm>
            <a:off x="4170240" y="3103560"/>
            <a:ext cx="1395360" cy="749160"/>
            <a:chOff x="4170240" y="3103560"/>
            <a:chExt cx="1395360" cy="749160"/>
          </a:xfrm>
        </p:grpSpPr>
        <p:pic>
          <p:nvPicPr>
            <p:cNvPr id="150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103560"/>
              <a:ext cx="1395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4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9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404" t="30923" r="2931" b="20898"/>
          <a:stretch/>
        </p:blipFill>
        <p:spPr>
          <a:xfrm>
            <a:off x="608040" y="1574640"/>
            <a:ext cx="853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3" name="Retângulo 1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4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5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6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7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ângulo 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ângulo 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1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Conector de seta reta 14"/>
          <p:cNvCxnSpPr>
            <a:stCxn id="173" idx="0"/>
            <a:endCxn id="174" idx="2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6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ector de seta reta 22"/>
          <p:cNvCxnSpPr>
            <a:stCxn id="176" idx="0"/>
            <a:endCxn id="178" idx="2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Retângulo 12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2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tângulo 19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0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2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24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25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26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27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ângulo 28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ângulo 29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ângulo 30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190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ector de seta reta 14"/>
          <p:cNvCxnSpPr>
            <a:stCxn id="192" idx="0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Conector de seta reta 22"/>
          <p:cNvCxnSpPr>
            <a:stCxn id="194" idx="0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Elipse 3"/>
          <p:cNvSpPr/>
          <p:nvPr/>
        </p:nvSpPr>
        <p:spPr>
          <a:xfrm>
            <a:off x="4336920" y="38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ipse 31"/>
          <p:cNvSpPr/>
          <p:nvPr/>
        </p:nvSpPr>
        <p:spPr>
          <a:xfrm>
            <a:off x="324468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ipse 32"/>
          <p:cNvSpPr/>
          <p:nvPr/>
        </p:nvSpPr>
        <p:spPr>
          <a:xfrm>
            <a:off x="325116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ipse 34"/>
          <p:cNvSpPr/>
          <p:nvPr/>
        </p:nvSpPr>
        <p:spPr>
          <a:xfrm>
            <a:off x="433692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e 35"/>
          <p:cNvSpPr/>
          <p:nvPr/>
        </p:nvSpPr>
        <p:spPr>
          <a:xfrm>
            <a:off x="6513480" y="38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e 36"/>
          <p:cNvSpPr/>
          <p:nvPr/>
        </p:nvSpPr>
        <p:spPr>
          <a:xfrm>
            <a:off x="542124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e 37"/>
          <p:cNvSpPr/>
          <p:nvPr/>
        </p:nvSpPr>
        <p:spPr>
          <a:xfrm>
            <a:off x="542772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e 38"/>
          <p:cNvSpPr/>
          <p:nvPr/>
        </p:nvSpPr>
        <p:spPr>
          <a:xfrm>
            <a:off x="651348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tângulo 40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41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ângulo 42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ângulo 43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44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ângulo 4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ângulo 4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47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tângulo 48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ângulo 49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15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ector de seta reta 14"/>
          <p:cNvCxnSpPr>
            <a:stCxn id="217" idx="0"/>
          </p:cNvCxnSpPr>
          <p:nvPr/>
        </p:nvCxnSpPr>
        <p:spPr>
          <a:xfrm flipH="1" flipV="1">
            <a:off x="3287520" y="4436280"/>
            <a:ext cx="5356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8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Conector de seta reta 22"/>
          <p:cNvCxnSpPr>
            <a:stCxn id="219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Conector de seta reta 20"/>
          <p:cNvCxnSpPr>
            <a:stCxn id="217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ector de seta reta 23"/>
          <p:cNvCxnSpPr>
            <a:stCxn id="217" idx="0"/>
          </p:cNvCxnSpPr>
          <p:nvPr/>
        </p:nvCxnSpPr>
        <p:spPr>
          <a:xfrm flipH="1" flipV="1">
            <a:off x="3287520" y="3338280"/>
            <a:ext cx="535680" cy="20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ctor de seta reta 26"/>
          <p:cNvCxnSpPr>
            <a:stCxn id="217" idx="0"/>
          </p:cNvCxnSpPr>
          <p:nvPr/>
        </p:nvCxnSpPr>
        <p:spPr>
          <a:xfrm flipV="1">
            <a:off x="3822840" y="3357000"/>
            <a:ext cx="6055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Conector de seta reta 31"/>
          <p:cNvCxnSpPr>
            <a:stCxn id="219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Conector de seta reta 34"/>
          <p:cNvCxnSpPr>
            <a:stCxn id="217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Conector de seta reta 37"/>
          <p:cNvCxnSpPr>
            <a:stCxn id="217" idx="0"/>
          </p:cNvCxnSpPr>
          <p:nvPr/>
        </p:nvCxnSpPr>
        <p:spPr>
          <a:xfrm flipV="1">
            <a:off x="3822480" y="3357000"/>
            <a:ext cx="276588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tângulo 28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ângulo 29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30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ângulo 32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ângulo 3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ângulo 3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3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ângulo 3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tângulo 3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ângulo 4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38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Conector de seta reta 14"/>
          <p:cNvCxnSpPr>
            <a:stCxn id="240" idx="0"/>
          </p:cNvCxnSpPr>
          <p:nvPr/>
        </p:nvCxnSpPr>
        <p:spPr>
          <a:xfrm flipH="1" flipV="1">
            <a:off x="3287520" y="4436640"/>
            <a:ext cx="366120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1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Conector de seta reta 22"/>
          <p:cNvCxnSpPr>
            <a:stCxn id="240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Conector de seta reta 20"/>
          <p:cNvCxnSpPr>
            <a:stCxn id="242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ector de seta reta 23"/>
          <p:cNvCxnSpPr>
            <a:stCxn id="240" idx="0"/>
          </p:cNvCxnSpPr>
          <p:nvPr/>
        </p:nvCxnSpPr>
        <p:spPr>
          <a:xfrm flipH="1" flipV="1">
            <a:off x="3287520" y="3337920"/>
            <a:ext cx="3661200" cy="20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ector de seta reta 26"/>
          <p:cNvCxnSpPr>
            <a:stCxn id="240" idx="0"/>
          </p:cNvCxnSpPr>
          <p:nvPr/>
        </p:nvCxnSpPr>
        <p:spPr>
          <a:xfrm flipH="1" flipV="1">
            <a:off x="4427280" y="3357360"/>
            <a:ext cx="252144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Conector de seta reta 31"/>
          <p:cNvCxnSpPr>
            <a:stCxn id="240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Conector de seta reta 34"/>
          <p:cNvCxnSpPr>
            <a:stCxn id="242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Conector de seta reta 37"/>
          <p:cNvCxnSpPr>
            <a:stCxn id="240" idx="0"/>
          </p:cNvCxnSpPr>
          <p:nvPr/>
        </p:nvCxnSpPr>
        <p:spPr>
          <a:xfrm flipH="1" flipV="1">
            <a:off x="6587280" y="3357360"/>
            <a:ext cx="3610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Elipse 41"/>
          <p:cNvSpPr/>
          <p:nvPr/>
        </p:nvSpPr>
        <p:spPr>
          <a:xfrm>
            <a:off x="388152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lipse 42"/>
          <p:cNvSpPr/>
          <p:nvPr/>
        </p:nvSpPr>
        <p:spPr>
          <a:xfrm>
            <a:off x="637236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419640" y="5502240"/>
          <a:ext cx="2082600" cy="1327320"/>
        </p:xfrm>
        <a:graphic>
          <a:graphicData uri="http://schemas.openxmlformats.org/drawingml/2006/table">
            <a:tbl>
              <a:tblPr/>
              <a:tblGrid>
                <a:gridCol w="66168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5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"/>
          <p:cNvSpPr/>
          <p:nvPr/>
        </p:nvSpPr>
        <p:spPr>
          <a:xfrm>
            <a:off x="5724360" y="5445000"/>
            <a:ext cx="287640" cy="1413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0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5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9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2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3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9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</a:t>
            </a: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cabecadeboi.tif” and “cabecadeboi-box.shp” available in data of package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04640" y="6608880"/>
            <a:ext cx="64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s://www.sciencelearn.org.nz/images/2823-improved-resolution-in-climate-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m 2" descr=""/>
          <p:cNvPicPr/>
          <p:nvPr/>
        </p:nvPicPr>
        <p:blipFill>
          <a:blip r:embed="rId1"/>
          <a:stretch/>
        </p:blipFill>
        <p:spPr>
          <a:xfrm>
            <a:off x="458640" y="1268280"/>
            <a:ext cx="86504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G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gis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cp:lastPrinted>2012-10-26T17:22:49Z</cp:lastPrinted>
  <dcterms:modified xsi:type="dcterms:W3CDTF">2022-08-05T12:47:14Z</dcterms:modified>
  <cp:revision>440</cp:revision>
  <dc:subject/>
  <dc:title>Low-carbon growth in Brazil?</dc:title>
</cp:coreProperties>
</file>